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862-D6D0-4138-93D8-B8242210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192-BF30-485F-89AB-C49DA79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A05-8B87-4A6D-AB10-FFB7F9A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C94-8F2B-45AC-813E-8B9277FB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8E5-445B-4715-AA58-74221C4F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B69-F9B2-4316-BF95-686835E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6332-D10E-4E56-BF4B-4BD255BC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F096-CC9B-4DBD-94E0-1D830C85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0CE8-8D86-4159-8BBD-5F93A4C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593-9423-417D-88DE-E33967D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C49-6B8B-4A82-9AB0-1D6CE90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BEB-F11F-41AA-8D83-ACE7D41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AE02-F2EC-4F0D-9514-0A397BD5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3A6-715E-46F0-896D-8461690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423-9B52-446D-8A06-57551D7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A165-32CE-4939-8C7A-2A2308C7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B4D-A9E9-4345-AD67-FE8D412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5AD-4157-4130-9CAE-908E86E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1E8-C3BD-4929-8379-0D55189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953-002E-403D-BE44-0E936C1D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1A0-97CD-4651-9E21-87013BFA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C6B-B043-4C02-941C-6D5E80B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021-B1C2-41EB-AB1E-7750B5D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E51-42E7-4F8E-96FA-045B184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9F80-FFFF-4353-B185-0F011D4AE6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45B-1004-4F7B-8F2E-C57E901A9BC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BU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A freedom fighter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北京四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rosa parks"/>
          <p:cNvPicPr/>
          <p:nvPr/>
        </p:nvPicPr>
        <p:blipFill>
          <a:blip r:embed="rId1"/>
          <a:stretch/>
        </p:blipFill>
        <p:spPr>
          <a:xfrm>
            <a:off x="5181480" y="121932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68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To this day I believe w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here on the pla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th to live, grow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do what we ca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e this world a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ce for all peop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joy freedom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Mrs. Rosa Pa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579132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526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9554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4038120"/>
            <a:ext cx="73533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 on the bus to try to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egregation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种族隔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rotest was brutally treated at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tops along the 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724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997360" cy="461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475128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bout 250,000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ttended the March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shington, D.C., ur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upport for civil-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egislation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立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vent was highligh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King's “I have a dream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peech in fron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incoln Memorial.</a:t>
            </a:r>
            <a:r>
              <a:rPr b="0" lang="zh-CN" sz="24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91440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9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 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ful words &amp;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61824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2, Para. 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e refused to move and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n away by the pol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609480"/>
            <a:ext cx="7201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ot to take what is offered; not to do what one is asked to do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拒收；拒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He refused my offer to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She refused to take the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refusal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31520"/>
            <a:ext cx="60976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3, Para. 1)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A group was formed to demand that the bus company should change its unfair practic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19 A freedom figh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continu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MLK" descr="Dr. Martin Luther King Jr."/>
          <p:cNvPicPr/>
          <p:nvPr/>
        </p:nvPicPr>
        <p:blipFill>
          <a:blip r:embed="rId1"/>
          <a:stretch/>
        </p:blipFill>
        <p:spPr>
          <a:xfrm>
            <a:off x="3048120" y="2286000"/>
            <a:ext cx="367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19920"/>
            <a:ext cx="61722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i. &amp; 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形成，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I can’t form any idea or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pinion abou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Clouds are forming o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op of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h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in any 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以任何形式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778680"/>
            <a:ext cx="62485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call for ; give in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7, Para. 1)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King called for black peo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not to give in but to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tru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25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ahoma"/>
              </a:rPr>
              <a:t>call for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要求；来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You passed your test? Th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alls for a celebr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I will call for you at you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1051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屈服；归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The rebels were foun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giv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He had to give in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ay sorry to Joh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497520"/>
            <a:ext cx="67816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与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有关的词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up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bandon the attemp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放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can do nothing more. I gave 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u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come to the end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到尽头；结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r patience gave 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838080"/>
            <a:ext cx="6629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ff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send out, e.g. smoke, smell etc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发出烟，气味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ives off a stink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distribut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分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mayor gave away the prizes at the sports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2600"/>
            <a:ext cx="611532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2. give freely, not expecting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anything in return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赠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ave away all his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3. reveal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泄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is accent gave him aw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ade known who or what 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840600"/>
            <a:ext cx="619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10, Para. 1)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把… 从…分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文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company did not have the right to separate blacks from whites on its bu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533520"/>
            <a:ext cx="7086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The channel separates 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2. A garden separates this ho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the n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ion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10560"/>
            <a:ext cx="709776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 by 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Times New Roman"/>
              </a:rPr>
              <a:t>(Sentence 3, Practice 2, Page 40)</a:t>
            </a: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肩并肩的   原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shall never forget the time when blacks and whites were fighting side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by side for the freedom of all r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5438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rtin Luther King dreamed of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tter world for all Americans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d worked to make it real with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y stop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MLK" descr="Dr. Martin Luther King Jr."/>
          <p:cNvPicPr/>
          <p:nvPr/>
        </p:nvPicPr>
        <p:blipFill>
          <a:blip r:embed="rId1"/>
          <a:stretch/>
        </p:blipFill>
        <p:spPr>
          <a:xfrm>
            <a:off x="3429000" y="838080"/>
            <a:ext cx="2733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1080"/>
            <a:ext cx="6539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by the side of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在…的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girl was standing by t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ide of the road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159840"/>
            <a:ext cx="693432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the side of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站在某人一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y mother always takes the side of my brother when I argue with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sides with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和…站在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I will take sides with you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85988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 have a Dream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节选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    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by Martin Luther King, Jr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127-thumb" descr="Photo"/>
          <p:cNvPicPr/>
          <p:nvPr/>
        </p:nvPicPr>
        <p:blipFill>
          <a:blip r:embed="rId1"/>
          <a:stretch/>
        </p:blipFill>
        <p:spPr>
          <a:xfrm>
            <a:off x="1619280" y="2060640"/>
            <a:ext cx="6053040" cy="3895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4360" y="609444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1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creed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信念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weltering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闷热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asis 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绿洲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vicious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不道德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nterposition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调停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nullification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废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0388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Getting to know more abou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’s civil right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ovement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了解更多黑人的争取国内权益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.  Useful words &amp; expres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couldn’t trust Jacob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couldn’t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acob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2928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1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Do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2,3 on Page 105;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 on Page 106, Ex. 1&amp;2 on Page 1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work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ake the Mini-test 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* Try to Read “I have a dream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629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. Appreciating the famo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peech “I have a dream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y Martin Luther 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欣赏马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路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金的著名演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有一个梦想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arming-up exerci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y is the speech “I have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eam” by Martin Lu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ing so fam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 Have you ever heard of Ros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ther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vil Righ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Photo of Ms. Rosa Parks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43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rs. Rosa Parks, 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February 4, 1913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 been called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mother of the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s movement"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of the m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ortant citizen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entury.</a:t>
            </a: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Photo of Ms. Rosa Parks"/>
          <p:cNvPicPr/>
          <p:nvPr/>
        </p:nvPicPr>
        <p:blipFill>
          <a:blip r:embed="rId1"/>
          <a:stretch/>
        </p:blipFill>
        <p:spPr>
          <a:xfrm>
            <a:off x="5562720" y="1752480"/>
            <a:ext cx="280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3809520"/>
            <a:ext cx="6934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, an African America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fused to give up her sea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’s section of a city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refore she was arrest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029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14:41:16Z</dcterms:modified>
  <cp:revision>102</cp:revision>
  <dc:subject/>
  <dc:title>Unit 19 A freedom fighter (continued)</dc:title>
</cp:coreProperties>
</file>